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727-F6B0-4DCE-9C1F-2D3D933D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4D9-351E-4A93-8A69-188DFDA8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4AB-0DB0-4BD0-B570-98550658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E1B-1EF4-4682-8DDE-4B2FF21B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860-5370-41AB-800E-54F08FA2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26F-93F5-4566-B0BC-9ADD705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0DB-D7E0-4733-9D5E-9478483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60D-09B8-4F07-981C-B377E319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C34-4658-40FA-B367-84B8647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095-1EEF-4EBF-9DD3-11A9E0C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21B-AEF2-456D-BE27-49BC9D3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4E7-9B74-4ADF-B1D6-C41A013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D61-5CB0-4ED8-964C-07D87E96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Siberian Railro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avana, Kate Noble, and 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ing on the TS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taking the Moscow-Irkutsk route which go from Moscow to Irkutsk the train stopped for 20-30 minutes every 3 to 4 hours and we would get off the train and people on platforms would offer drinks and food. This was great because it would crave our hunger while on the t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roslav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TSRR the we first saw the city of Yaroslavl, is one of the oldest cities in Russia. Yaroslavl is wealthy and has a lot of beautiful chur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ing On the TS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SRR is divided in to different classes First Class is the most comfortable and expensive each cabin has 2 couches that can turn in to beds. Second Class has 4 beds and 1 bathroom that is share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little less expensive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is smaller with only a little privacy and small narrow hallwa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kut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kutsk is another wealthy trading city. Irkutsk is a major attraction because of Lake Baikal and that is why it is a tradin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47:18Z</dcterms:created>
  <dc:creator>annablock</dc:creator>
  <dc:description/>
  <dc:language>en-US</dc:language>
  <cp:lastModifiedBy>annablock</cp:lastModifiedBy>
  <dcterms:modified xsi:type="dcterms:W3CDTF">2008-11-24T17:08:47Z</dcterms:modified>
  <cp:revision>2</cp:revision>
  <dc:subject/>
  <dc:title>Slide 1</dc:title>
</cp:coreProperties>
</file>